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624-EA63-4BB1-9375-270E49ED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597-E94D-4674-B3E4-3B57DEEC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01A-9D10-4125-8FF2-827A87E3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FE2-6FAB-436C-AE00-3F7CBF36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1EA-6228-404B-B2D0-EDD213B6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180-7EC6-47A6-AE30-BF7A333A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450-6070-4814-AE20-8E3C62E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A40-A495-496B-B48F-FDD57ADB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E26-F64C-4C62-9AD9-84DA33D7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B16-6154-413C-A4E7-584C94D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68F-E71C-4890-B864-C7D1703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380-0921-4440-8D85-C181B7F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81BD-B1F4-4BA4-99E6-E084097B1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图片4"/>
          <p:cNvPicPr/>
          <p:nvPr/>
        </p:nvPicPr>
        <p:blipFill>
          <a:blip r:embed="rId1"/>
          <a:stretch/>
        </p:blipFill>
        <p:spPr>
          <a:xfrm>
            <a:off x="64296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692360" y="191628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</a:rPr>
              <a:t>比  的  应  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24000" y="33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小学数学六年级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48360" y="602136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755640" y="476280"/>
            <a:ext cx="201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做一做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332000" y="126828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妇产医院上月新生婴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，男女婴儿人数之比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上月新生男女婴儿各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716360" y="2781360"/>
            <a:ext cx="36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份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婴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3 ×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女婴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3 ×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6300720" y="3141720"/>
                <a:ext cx="576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1"/>
              <p:cNvSpPr txBox="1"/>
              <p:nvPr/>
            </p:nvSpPr>
            <p:spPr>
              <a:xfrm>
                <a:off x="6372360" y="4005360"/>
                <a:ext cx="576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14"/>
          <p:cNvSpPr/>
          <p:nvPr/>
        </p:nvSpPr>
        <p:spPr>
          <a:xfrm>
            <a:off x="1908000" y="551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：上月新生男女婴儿各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450072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258920" y="2997360"/>
            <a:ext cx="36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份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份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3÷1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婴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 ×5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女婴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 ×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1187280" y="1413000"/>
            <a:ext cx="684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气中氧气和氮气的体积比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米的空气中有氧气和氮气各多少立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403280" y="3500280"/>
            <a:ext cx="6842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泥、沙子和石子的比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要搅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这样的混凝土，需要水泥、沙子和石子各是多少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900000" y="0"/>
            <a:ext cx="2305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7"/>
          <p:cNvSpPr txBox="1"/>
          <p:nvPr/>
        </p:nvSpPr>
        <p:spPr>
          <a:xfrm rot="657600">
            <a:off x="3059280" y="259920"/>
            <a:ext cx="1866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能力提高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1916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、乙、丙三个数的平均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甲、乙、丙三个数的比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甲、乙、丙三个数各是多少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0" y="0"/>
                <a:ext cx="24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0" y="0"/>
                <a:ext cx="24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3"/>
              <p:cNvSpPr txBox="1"/>
              <p:nvPr/>
            </p:nvSpPr>
            <p:spPr>
              <a:xfrm>
                <a:off x="0" y="0"/>
                <a:ext cx="24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Line 15"/>
          <p:cNvSpPr/>
          <p:nvPr/>
        </p:nvSpPr>
        <p:spPr>
          <a:xfrm>
            <a:off x="4284720" y="2492280"/>
            <a:ext cx="129528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258920" y="227664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直角三角形的两个锐角度数的比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两个锐角分别是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2340000" y="2852640"/>
            <a:ext cx="194472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 rot="657600">
            <a:off x="3059280" y="259920"/>
            <a:ext cx="1866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能力提高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755640" y="1916280"/>
            <a:ext cx="72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的铁丝做一个长方体的框架。长、宽、高的比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个长方体的长、宽、高分别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5292720" y="2492280"/>
            <a:ext cx="144000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6"/>
          <p:cNvSpPr txBox="1"/>
          <p:nvPr/>
        </p:nvSpPr>
        <p:spPr>
          <a:xfrm rot="657600">
            <a:off x="3059280" y="259920"/>
            <a:ext cx="1866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能力提高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826920" y="1628640"/>
            <a:ext cx="662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里的菜地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米，用      种西红柿。剩下的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面积比种黄瓜和茄子。三种蔬菜的面积分别是多少平方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56000" y="2708280"/>
            <a:ext cx="122400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6227640" y="1413000"/>
                <a:ext cx="505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WordArt 7"/>
          <p:cNvSpPr txBox="1"/>
          <p:nvPr/>
        </p:nvSpPr>
        <p:spPr>
          <a:xfrm rot="657600">
            <a:off x="3059280" y="259920"/>
            <a:ext cx="1866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能力提高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900000" y="162864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男工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，男工与女工的比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男女工一共有多少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2627280" y="0"/>
            <a:ext cx="280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举一反三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258920" y="3933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1979640" y="4437000"/>
                <a:ext cx="792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9"/>
          <p:cNvSpPr/>
          <p:nvPr/>
        </p:nvSpPr>
        <p:spPr>
          <a:xfrm>
            <a:off x="4211640" y="3284640"/>
            <a:ext cx="432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设男女工一共有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4716360" y="4221000"/>
                <a:ext cx="7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6588000" y="4724280"/>
                <a:ext cx="7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Text Box 12"/>
          <p:cNvSpPr/>
          <p:nvPr/>
        </p:nvSpPr>
        <p:spPr>
          <a:xfrm>
            <a:off x="2268360" y="587700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男女工一共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3851280" y="3213000"/>
            <a:ext cx="7308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041560" y="1820880"/>
            <a:ext cx="161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57200" y="380880"/>
            <a:ext cx="8153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两个长方形重叠的面积，相当于大长方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相当于小长方形的       ，大长方形与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长方形的面积比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06240" y="1371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6240" y="99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800600" y="1295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800600" y="914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609480" y="1447920"/>
            <a:ext cx="38124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4876920" y="1371600"/>
            <a:ext cx="3808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685800" y="2743200"/>
            <a:ext cx="4495680" cy="2075040"/>
            <a:chOff x="685800" y="2743200"/>
            <a:chExt cx="4495680" cy="2075040"/>
          </a:xfrm>
        </p:grpSpPr>
        <p:sp>
          <p:nvSpPr>
            <p:cNvPr id="159" name="Rectangle 11"/>
            <p:cNvSpPr/>
            <p:nvPr/>
          </p:nvSpPr>
          <p:spPr>
            <a:xfrm>
              <a:off x="2933640" y="4124160"/>
              <a:ext cx="2247840" cy="6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685800" y="4124160"/>
              <a:ext cx="2247840" cy="6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933640" y="3429000"/>
              <a:ext cx="22478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2933640" y="2743200"/>
              <a:ext cx="2247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685800" y="2743200"/>
              <a:ext cx="2247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685800" y="2743200"/>
              <a:ext cx="4495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685800" y="4818240"/>
              <a:ext cx="4495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8"/>
            <p:cNvSpPr/>
            <p:nvPr/>
          </p:nvSpPr>
          <p:spPr>
            <a:xfrm>
              <a:off x="685800" y="2743200"/>
              <a:ext cx="0" cy="2075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9"/>
            <p:cNvSpPr/>
            <p:nvPr/>
          </p:nvSpPr>
          <p:spPr>
            <a:xfrm>
              <a:off x="5181480" y="2743200"/>
              <a:ext cx="0" cy="2075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20"/>
          <p:cNvSpPr/>
          <p:nvPr/>
        </p:nvSpPr>
        <p:spPr>
          <a:xfrm>
            <a:off x="2971800" y="4800600"/>
            <a:ext cx="22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5181480" y="411480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2971800" y="4114800"/>
            <a:ext cx="220968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>
            <a:off x="2971800" y="4114800"/>
            <a:ext cx="4419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2971800" y="5438880"/>
            <a:ext cx="4419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>
            <a:off x="2971800" y="4114800"/>
            <a:ext cx="0" cy="132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7391520" y="4114800"/>
            <a:ext cx="0" cy="132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27"/>
          <p:cNvGraphicFramePr/>
          <p:nvPr/>
        </p:nvGraphicFramePr>
        <p:xfrm>
          <a:off x="8305920" y="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41560" y="1820880"/>
            <a:ext cx="161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380880"/>
            <a:ext cx="8153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两个长方形重叠的面积，相当于大长方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相当于小长方形的       ，大长方形与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长方形的面积比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6240" y="1371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06240" y="99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800600" y="1295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800600" y="914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609480" y="1447920"/>
            <a:ext cx="38124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4876920" y="1371600"/>
            <a:ext cx="3808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2743200"/>
          <a:ext cx="4495680" cy="2057400"/>
        </p:xfrm>
        <a:graphic>
          <a:graphicData uri="http://schemas.openxmlformats.org/drawingml/2006/table">
            <a:tbl>
              <a:tblPr/>
              <a:tblGrid>
                <a:gridCol w="2247840"/>
                <a:gridCol w="22478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6" name="Group 24"/>
          <p:cNvGrpSpPr/>
          <p:nvPr/>
        </p:nvGrpSpPr>
        <p:grpSpPr>
          <a:xfrm>
            <a:off x="2971800" y="4114800"/>
            <a:ext cx="4419720" cy="1295280"/>
            <a:chOff x="2971800" y="4114800"/>
            <a:chExt cx="4419720" cy="1295280"/>
          </a:xfrm>
        </p:grpSpPr>
        <p:sp>
          <p:nvSpPr>
            <p:cNvPr id="187" name="Rectangle 25"/>
            <p:cNvSpPr/>
            <p:nvPr/>
          </p:nvSpPr>
          <p:spPr>
            <a:xfrm>
              <a:off x="5181480" y="4772160"/>
              <a:ext cx="2210040" cy="6379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2971800" y="4772160"/>
              <a:ext cx="2209680" cy="637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5181480" y="4114800"/>
              <a:ext cx="2210040" cy="657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2971800" y="4114800"/>
              <a:ext cx="2209680" cy="657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9"/>
            <p:cNvSpPr/>
            <p:nvPr/>
          </p:nvSpPr>
          <p:spPr>
            <a:xfrm>
              <a:off x="2971800" y="4114800"/>
              <a:ext cx="4419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0"/>
            <p:cNvSpPr/>
            <p:nvPr/>
          </p:nvSpPr>
          <p:spPr>
            <a:xfrm>
              <a:off x="2971800" y="4772160"/>
              <a:ext cx="441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>
              <a:off x="2971800" y="5410080"/>
              <a:ext cx="4419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2"/>
            <p:cNvSpPr/>
            <p:nvPr/>
          </p:nvSpPr>
          <p:spPr>
            <a:xfrm>
              <a:off x="2971800" y="4114800"/>
              <a:ext cx="0" cy="12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3"/>
            <p:cNvSpPr/>
            <p:nvPr/>
          </p:nvSpPr>
          <p:spPr>
            <a:xfrm>
              <a:off x="5181480" y="4114800"/>
              <a:ext cx="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7391520" y="4114800"/>
              <a:ext cx="0" cy="12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7" name="Object 35"/>
          <p:cNvGraphicFramePr/>
          <p:nvPr/>
        </p:nvGraphicFramePr>
        <p:xfrm>
          <a:off x="8305920" y="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36"/>
          <p:cNvSpPr/>
          <p:nvPr/>
        </p:nvSpPr>
        <p:spPr>
          <a:xfrm>
            <a:off x="2195640" y="5661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  :  4 = 3  :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2771640" y="836640"/>
            <a:ext cx="302436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思维拓展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971640" y="1341360"/>
            <a:ext cx="70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甲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乙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乙数和丙数的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甲数和丙数的比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771640" y="328464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甲        乙         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442764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3492360" y="4365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536400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99564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3276720" y="5589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932360" y="5589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755640" y="126828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一段路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经修的米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剩下的米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比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∶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1"/>
          <p:cNvGrpSpPr/>
          <p:nvPr/>
        </p:nvGrpSpPr>
        <p:grpSpPr>
          <a:xfrm>
            <a:off x="179280" y="0"/>
            <a:ext cx="2736720" cy="1297080"/>
            <a:chOff x="179280" y="0"/>
            <a:chExt cx="2736720" cy="1297080"/>
          </a:xfrm>
        </p:grpSpPr>
        <p:sp>
          <p:nvSpPr>
            <p:cNvPr id="48" name="AutoShape 9"/>
            <p:cNvSpPr/>
            <p:nvPr/>
          </p:nvSpPr>
          <p:spPr>
            <a:xfrm>
              <a:off x="179280" y="0"/>
              <a:ext cx="2736720" cy="1297080"/>
            </a:xfrm>
            <a:prstGeom prst="cloudCallout">
              <a:avLst>
                <a:gd name="adj1" fmla="val -43754"/>
                <a:gd name="adj2" fmla="val 6664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545400" y="433440"/>
              <a:ext cx="209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热身运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2"/>
          <p:cNvSpPr/>
          <p:nvPr/>
        </p:nvSpPr>
        <p:spPr>
          <a:xfrm>
            <a:off x="1042920" y="2637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把已修的米数看作（     ）份，剩下的就有（     ）份。这段路共有（       ）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979640" y="37893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经修的是剩下的（ 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050920" y="45086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剩下的是已修的（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2050920" y="5084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经修的占这段路的（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2124000" y="57340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剩下的占这段路的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5076720" y="2565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547640" y="314172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292720" y="3141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0"/>
              <p:cNvSpPr txBox="1"/>
              <p:nvPr/>
            </p:nvSpPr>
            <p:spPr>
              <a:xfrm>
                <a:off x="5435640" y="3716280"/>
                <a:ext cx="431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2"/>
              <p:cNvSpPr txBox="1"/>
              <p:nvPr/>
            </p:nvSpPr>
            <p:spPr>
              <a:xfrm>
                <a:off x="5076720" y="4365720"/>
                <a:ext cx="50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4"/>
              <p:cNvSpPr txBox="1"/>
              <p:nvPr/>
            </p:nvSpPr>
            <p:spPr>
              <a:xfrm>
                <a:off x="5435640" y="5589720"/>
                <a:ext cx="431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6"/>
              <p:cNvSpPr txBox="1"/>
              <p:nvPr/>
            </p:nvSpPr>
            <p:spPr>
              <a:xfrm>
                <a:off x="5867280" y="4869000"/>
                <a:ext cx="503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843280" y="1844640"/>
            <a:ext cx="331308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179280" y="0"/>
            <a:ext cx="2736720" cy="1297080"/>
            <a:chOff x="179280" y="0"/>
            <a:chExt cx="2736720" cy="1297080"/>
          </a:xfrm>
        </p:grpSpPr>
        <p:sp>
          <p:nvSpPr>
            <p:cNvPr id="67" name="AutoShape 5"/>
            <p:cNvSpPr/>
            <p:nvPr/>
          </p:nvSpPr>
          <p:spPr>
            <a:xfrm>
              <a:off x="179280" y="0"/>
              <a:ext cx="2736720" cy="1297080"/>
            </a:xfrm>
            <a:prstGeom prst="cloudCallout">
              <a:avLst>
                <a:gd name="adj1" fmla="val -43754"/>
                <a:gd name="adj2" fmla="val 6664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45400" y="433440"/>
              <a:ext cx="209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热身运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7"/>
          <p:cNvSpPr/>
          <p:nvPr/>
        </p:nvSpPr>
        <p:spPr>
          <a:xfrm>
            <a:off x="611280" y="177336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年级师生向希望小学捐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，六年级比五年级多捐    。六年级师生捐书多少本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8"/>
              <p:cNvSpPr txBox="1"/>
              <p:nvPr/>
            </p:nvSpPr>
            <p:spPr>
              <a:xfrm>
                <a:off x="7020000" y="2349360"/>
                <a:ext cx="6476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95280" y="1484280"/>
          <a:ext cx="8207280" cy="4545000"/>
        </p:xfrm>
        <a:graphic>
          <a:graphicData uri="http://schemas.openxmlformats.org/drawingml/2006/table">
            <a:tbl>
              <a:tblPr/>
              <a:tblGrid>
                <a:gridCol w="1641600"/>
                <a:gridCol w="1641240"/>
                <a:gridCol w="1641600"/>
                <a:gridCol w="1641600"/>
                <a:gridCol w="1641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蜂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蜂蜜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蜂蜜和水的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第一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90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100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1 : 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第二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100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3 : 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第三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" name="Group 37"/>
          <p:cNvGrpSpPr/>
          <p:nvPr/>
        </p:nvGrpSpPr>
        <p:grpSpPr>
          <a:xfrm>
            <a:off x="-75240" y="21960"/>
            <a:ext cx="3930480" cy="1888920"/>
            <a:chOff x="-75240" y="21960"/>
            <a:chExt cx="3930480" cy="1888920"/>
          </a:xfrm>
        </p:grpSpPr>
        <p:sp>
          <p:nvSpPr>
            <p:cNvPr id="73" name="AutoShape 38"/>
            <p:cNvSpPr/>
            <p:nvPr/>
          </p:nvSpPr>
          <p:spPr>
            <a:xfrm rot="21154800">
              <a:off x="0" y="259920"/>
              <a:ext cx="3779640" cy="1412640"/>
            </a:xfrm>
            <a:prstGeom prst="cloudCallout">
              <a:avLst>
                <a:gd name="adj1" fmla="val -43754"/>
                <a:gd name="adj2" fmla="val 6664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9"/>
            <p:cNvSpPr/>
            <p:nvPr/>
          </p:nvSpPr>
          <p:spPr>
            <a:xfrm rot="21154800">
              <a:off x="527760" y="722160"/>
              <a:ext cx="2895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配制表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44"/>
          <p:cNvSpPr/>
          <p:nvPr/>
        </p:nvSpPr>
        <p:spPr>
          <a:xfrm>
            <a:off x="2987640" y="6381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3708360" y="4869000"/>
            <a:ext cx="15843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6"/>
          <p:cNvSpPr/>
          <p:nvPr/>
        </p:nvSpPr>
        <p:spPr>
          <a:xfrm>
            <a:off x="5364000" y="5241960"/>
            <a:ext cx="15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268360" y="522936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7236000" y="522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loud"/>
          <p:cNvSpPr/>
          <p:nvPr/>
        </p:nvSpPr>
        <p:spPr>
          <a:xfrm>
            <a:off x="395280" y="981000"/>
            <a:ext cx="7416720" cy="5112000"/>
          </a:xfrm>
          <a:custGeom>
            <a:avLst/>
            <a:gdLst>
              <a:gd name="textAreaLeft" fmla="*/ 1022040 w 7416720"/>
              <a:gd name="textAreaRight" fmla="*/ 5867280 w 7416720"/>
              <a:gd name="textAreaTop" fmla="*/ 771840 h 5112000"/>
              <a:gd name="textAreaBottom" fmla="*/ 4103280 h 511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476360" y="1916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在生产和日常生活中，常常需要把一个数量按照一定的比来分配。这种分配的方法通常叫做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  <a:ea typeface="华文新魏"/>
              </a:rPr>
              <a:t>按比例分配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5398241210231339"/>
          <p:cNvPicPr/>
          <p:nvPr/>
        </p:nvPicPr>
        <p:blipFill>
          <a:blip r:embed="rId1"/>
          <a:stretch/>
        </p:blipFill>
        <p:spPr>
          <a:xfrm>
            <a:off x="900000" y="907920"/>
            <a:ext cx="3729240" cy="511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5219640" y="1413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浓缩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164360" y="134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940360" y="5229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稀释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H="1">
            <a:off x="6877080" y="1989000"/>
            <a:ext cx="503280" cy="1008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5580000" y="3068640"/>
            <a:ext cx="2232000" cy="1081080"/>
          </a:xfrm>
          <a:prstGeom prst="wedgeRoundRectCallout">
            <a:avLst>
              <a:gd name="adj1" fmla="val -99574"/>
              <a:gd name="adj2" fmla="val -5146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释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156360" y="1989000"/>
            <a:ext cx="430200" cy="9367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6588000" y="4221000"/>
            <a:ext cx="0" cy="1008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253507628570"/>
          <p:cNvPicPr/>
          <p:nvPr/>
        </p:nvPicPr>
        <p:blipFill>
          <a:blip r:embed="rId1"/>
          <a:srcRect l="51836" t="10835" r="21008" b="6419"/>
          <a:stretch/>
        </p:blipFill>
        <p:spPr>
          <a:xfrm>
            <a:off x="10429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116000" y="2205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:1    1:2      1:3        1:4      1:5   1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352920" y="476280"/>
            <a:ext cx="1521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浓缩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与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的体积之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826920" y="549360"/>
            <a:ext cx="58327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配制了一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液，其中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缩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体积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WordArt 5" descr=""/>
          <p:cNvPicPr/>
          <p:nvPr/>
        </p:nvPicPr>
        <p:blipFill>
          <a:blip r:embed="rId1"/>
          <a:stretch/>
        </p:blipFill>
        <p:spPr>
          <a:xfrm>
            <a:off x="311040" y="676440"/>
            <a:ext cx="1706760" cy="51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_284057"/>
          <p:cNvPicPr/>
          <p:nvPr/>
        </p:nvPicPr>
        <p:blipFill>
          <a:blip r:embed="rId2"/>
          <a:srcRect l="16982" t="23903" r="55992" b="65497"/>
          <a:stretch/>
        </p:blipFill>
        <p:spPr>
          <a:xfrm>
            <a:off x="5651640" y="404640"/>
            <a:ext cx="2590560" cy="1036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39640" y="2708280"/>
            <a:ext cx="432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总份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÷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浓缩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2781360"/>
            <a:ext cx="496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总份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浓缩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×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×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4572000" y="1916280"/>
            <a:ext cx="0" cy="38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7093080" y="3213000"/>
                <a:ext cx="463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3"/>
              <p:cNvSpPr txBox="1"/>
              <p:nvPr/>
            </p:nvSpPr>
            <p:spPr>
              <a:xfrm>
                <a:off x="6443640" y="3860640"/>
                <a:ext cx="506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4"/>
          <p:cNvSpPr/>
          <p:nvPr/>
        </p:nvSpPr>
        <p:spPr>
          <a:xfrm>
            <a:off x="1619280" y="5516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浓缩液和水的体积分别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900000" y="692280"/>
            <a:ext cx="7128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口头练习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 .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白兔和灰兔只数的比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白兔占两种兔总只数的（    ），灰兔占两种兔总只数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37152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4525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10"/>
          <p:cNvGraphicFramePr/>
          <p:nvPr/>
        </p:nvGraphicFramePr>
        <p:xfrm>
          <a:off x="2627280" y="333360"/>
          <a:ext cx="8380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3336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1"/>
          <p:cNvSpPr/>
          <p:nvPr/>
        </p:nvSpPr>
        <p:spPr>
          <a:xfrm>
            <a:off x="755640" y="2997360"/>
            <a:ext cx="884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２．一个三角形三条边的长度比是３：５：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条边的长度分别占三角形周长的（    ），（     ）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6516720" y="3500280"/>
                <a:ext cx="506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7885080" y="3429000"/>
                <a:ext cx="676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4"/>
              <p:cNvSpPr txBox="1"/>
              <p:nvPr/>
            </p:nvSpPr>
            <p:spPr>
              <a:xfrm>
                <a:off x="1332000" y="4149720"/>
                <a:ext cx="463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3:28:26Z</dcterms:created>
  <dc:creator>番茄花园</dc:creator>
  <dc:description/>
  <dc:language>en-US</dc:language>
  <cp:lastModifiedBy>USER</cp:lastModifiedBy>
  <dcterms:modified xsi:type="dcterms:W3CDTF">2013-10-17T09:11:19Z</dcterms:modified>
  <cp:revision>75</cp:revision>
  <dc:subject/>
  <dc:title>幻灯片 1</dc:title>
</cp:coreProperties>
</file>